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4.png" ContentType="image/png"/>
  <Override PartName="/ppt/media/image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FC8-D6DD-44C1-B6BC-29F14290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423-C34B-4F72-920C-9EAD6EAD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FB2-0405-411E-88E4-3898ABA0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407-82A2-4FC5-9BBF-8E380CF6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3BF-1AA3-4937-947C-F2661645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20B-DF45-4E7A-AAA7-842EC11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037-AD3F-4902-86CF-9B2B41D0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54F-507F-486F-AEA5-5AC345A9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DA5-AE67-40CF-9111-6B541A6C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265-A168-4D8B-89B2-DA01F1E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4EC-E90D-4305-A8D3-077CB44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99F-C7A3-4C15-842B-FB16E9FE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23B9-9356-4431-955B-BF45BCDBD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hyperlink" Target="http://www.skep.irk.ru/index.php-rd=5@arx=5.htm" TargetMode="External"/><Relationship Id="rId4" Type="http://schemas.openxmlformats.org/officeDocument/2006/relationships/hyperlink" Target="http://www.soccernews.ru/news/35064/print/" TargetMode="External"/><Relationship Id="rId5" Type="http://schemas.openxmlformats.org/officeDocument/2006/relationships/hyperlink" Target="http://www.vexve-valve.ru/catalogue/default.aspx?Type=c1" TargetMode="External"/><Relationship Id="rId6" Type="http://schemas.openxmlformats.org/officeDocument/2006/relationships/hyperlink" Target="http://www.lori.ru/catalogue/384?page=637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7960" y="1079640"/>
            <a:ext cx="5492880" cy="85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301920" y="2359080"/>
            <a:ext cx="4540320" cy="64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335240" y="3594240"/>
            <a:ext cx="655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" y="50760"/>
            <a:ext cx="88646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00000"/>
                </a:solidFill>
                <a:uFillTx/>
                <a:latin typeface="Times New Roman"/>
              </a:rPr>
              <a:t>Используемые материалы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6800" y="1544760"/>
            <a:ext cx="7991640" cy="5313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64515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kep.irk.ru/index.php-rd=5@arx=5.htm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5200" y="64515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1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601200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soccernews.ru/news/35064/print/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200" y="601200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1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57388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vexve-valve.ru/catalogue/default.aspx?Type=c1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557388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51339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ori.ru/catalogue/384?page=637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200" y="51339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69440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karniziko.ru/sub/product/kruglie/d16/figaro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5200" y="469440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25592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ural-art-trade.com/test/imgviw.php?id=640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200" y="425592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6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8163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ya-yo.ru/?poductID=15552@@brandID=4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200" y="38163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37644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gusmarket.ru/product_info.php?products_id=343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" y="337644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293832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school700fp.jimdo.com/sitemap.php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200" y="293832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49876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janchyk.com/wallpaper/13227-cilindry.html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200" y="249876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058840"/>
            <a:ext cx="689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99"/>
                </a:solidFill>
                <a:uFillTx/>
                <a:latin typeface="Times New Roman"/>
              </a:rPr>
              <a:t>www.photosight.ru/photos/1572866/?from_member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200" y="2058840"/>
            <a:ext cx="869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620720"/>
            <a:ext cx="6897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200" y="1620720"/>
            <a:ext cx="8697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№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п/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8751960" cy="73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Сколько</a:t>
            </a:r>
            <a:br>
              <a:rPr sz="4900"/>
            </a:br>
            <a:br>
              <a:rPr sz="4900"/>
            </a:b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превращений </a:t>
            </a:r>
            <a:br>
              <a:rPr sz="4900"/>
            </a:br>
            <a:br>
              <a:rPr sz="4900"/>
            </a:b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шара, конуса, цилиндра</a:t>
            </a:r>
            <a:br>
              <a:rPr sz="4900"/>
            </a:br>
            <a:br>
              <a:rPr sz="4900"/>
            </a:br>
            <a:r>
              <a:rPr b="1" i="1" lang="en-US" sz="4900" spc="-1" strike="noStrike">
                <a:solidFill>
                  <a:srgbClr val="800000"/>
                </a:solidFill>
                <a:latin typeface="Comic Sans MS"/>
              </a:rPr>
              <a:t>можно наблюдать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6840" y="130320"/>
            <a:ext cx="24145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" y="50400"/>
            <a:ext cx="8880480" cy="73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Цель исследования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3100" spc="-1" strike="noStrike">
                <a:solidFill>
                  <a:srgbClr val="800000"/>
                </a:solidFill>
                <a:latin typeface="Times New Roman"/>
              </a:rPr>
              <a:t>Изучить разнообразие перевоплощений тел вращения.</a:t>
            </a:r>
            <a:br>
              <a:rPr sz="3100"/>
            </a:br>
            <a:br>
              <a:rPr sz="3100"/>
            </a:br>
            <a:br>
              <a:rPr sz="4000"/>
            </a:br>
            <a:r>
              <a:rPr b="1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План:</a:t>
            </a:r>
            <a:br>
              <a:rPr sz="4000"/>
            </a:br>
            <a:r>
              <a:rPr b="0" lang="en-US" sz="3100" spc="-1" strike="noStrike">
                <a:solidFill>
                  <a:srgbClr val="800000"/>
                </a:solidFill>
                <a:latin typeface="Times New Roman"/>
              </a:rPr>
              <a:t>1. Рассмотреть образы шара, конуса, цилиндра в различных сферах.</a:t>
            </a:r>
            <a:br>
              <a:rPr sz="3100"/>
            </a:br>
            <a:r>
              <a:rPr b="0" lang="en-US" sz="3100" spc="-1" strike="noStrike">
                <a:solidFill>
                  <a:srgbClr val="800000"/>
                </a:solidFill>
                <a:latin typeface="Times New Roman"/>
              </a:rPr>
              <a:t>2. Посчитать количество образов основных тел вращения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47120" y="20520"/>
            <a:ext cx="99036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8880" y="5033880"/>
            <a:ext cx="1843200" cy="179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51400" y="-15840"/>
            <a:ext cx="824040" cy="78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788080" y="5683320"/>
            <a:ext cx="1695240" cy="1641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834240" y="1822320"/>
            <a:ext cx="1536480" cy="154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379600" y="1405080"/>
            <a:ext cx="10717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662360" y="1668600"/>
            <a:ext cx="1525680" cy="149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952720" y="6073920"/>
            <a:ext cx="14083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4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00000"/>
                </a:solidFill>
                <a:uFillTx/>
                <a:latin typeface="Times New Roman"/>
              </a:rPr>
              <a:t>Гипотеза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98440" y="2166840"/>
            <a:ext cx="8547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</a:rPr>
              <a:t>Количество образ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</a:rPr>
              <a:t>основных те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</a:rPr>
              <a:t>вращения конечн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0960" y="2286000"/>
            <a:ext cx="2890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" y="50760"/>
            <a:ext cx="88804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00000"/>
                </a:solidFill>
                <a:uFillTx/>
                <a:latin typeface="Times New Roman"/>
              </a:rPr>
              <a:t>Ход исследования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44760" y="1936800"/>
            <a:ext cx="4118040" cy="510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39960" y="1882800"/>
            <a:ext cx="1684440" cy="1355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97480" y="2846520"/>
            <a:ext cx="129240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116760" y="5481720"/>
            <a:ext cx="159840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16080" y="4762440"/>
            <a:ext cx="1525680" cy="137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5397480" y="4762440"/>
            <a:ext cx="136512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238400" y="2127240"/>
            <a:ext cx="155556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3873600" y="5640480"/>
            <a:ext cx="1228680" cy="151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3470400" y="6286680"/>
            <a:ext cx="81756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2433600" y="2846520"/>
            <a:ext cx="118764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22440" y="528480"/>
            <a:ext cx="4076640" cy="5959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79960" y="444600"/>
            <a:ext cx="120672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11800" y="1639800"/>
            <a:ext cx="1378080" cy="1536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469880" y="1639800"/>
            <a:ext cx="2129040" cy="155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311120" y="1004760"/>
            <a:ext cx="1219320" cy="1144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1397160" y="3882960"/>
            <a:ext cx="2244600" cy="153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311800" y="3882960"/>
            <a:ext cx="2128680" cy="150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910560" y="4921200"/>
            <a:ext cx="1577880" cy="1058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3639960" y="5005440"/>
            <a:ext cx="1684440" cy="1450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3714840" y="2762280"/>
            <a:ext cx="1450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50960" y="358920"/>
            <a:ext cx="5769000" cy="589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994120" y="285840"/>
            <a:ext cx="890640" cy="80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873760" y="3164040"/>
            <a:ext cx="1577880" cy="153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470560" y="1163520"/>
            <a:ext cx="1611360" cy="1609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639800" y="3089160"/>
            <a:ext cx="152568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957320" y="1247760"/>
            <a:ext cx="1621080" cy="160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798720" y="369720"/>
            <a:ext cx="1525680" cy="1609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4676760" y="4687920"/>
            <a:ext cx="1928880" cy="1609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2751120" y="4687920"/>
            <a:ext cx="17683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440" y="260280"/>
            <a:ext cx="85471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3600" y="1163520"/>
            <a:ext cx="7378920" cy="601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46080" y="4778280"/>
            <a:ext cx="231480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663300"/>
                </a:solidFill>
                <a:uFillTx/>
                <a:latin typeface="Times New Roman"/>
              </a:rPr>
              <a:t>Образы шар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нау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… </a:t>
            </a: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22600" y="4778280"/>
            <a:ext cx="23162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663300"/>
                </a:solidFill>
                <a:uFillTx/>
                <a:latin typeface="Times New Roman"/>
              </a:rPr>
              <a:t>Образы конус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нау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… </a:t>
            </a: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9120" y="4778280"/>
            <a:ext cx="23148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663300"/>
                </a:solidFill>
                <a:uFillTx/>
                <a:latin typeface="Times New Roman"/>
              </a:rPr>
              <a:t>Образы цилиндр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омыш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строительст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imes New Roman"/>
              </a:rPr>
              <a:t>В нау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… </a:t>
            </a:r>
            <a:r>
              <a:rPr b="0" lang="en-US" sz="19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080" y="339840"/>
            <a:ext cx="84186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На основе исследований и приведенной выше таблицы можно сделать вывод:</a:t>
            </a:r>
            <a:br>
              <a:rPr sz="4000"/>
            </a:br>
            <a:r>
              <a:rPr b="0" i="1" lang="en-US" sz="4000" spc="-1" strike="noStrike" u="sng">
                <a:solidFill>
                  <a:srgbClr val="e17171"/>
                </a:solidFill>
                <a:uFillTx/>
                <a:latin typeface="Times New Roman"/>
              </a:rPr>
              <a:t>Количество образов основных </a:t>
            </a:r>
            <a:br>
              <a:rPr sz="4000"/>
            </a:br>
            <a:r>
              <a:rPr b="0" i="1" lang="en-US" sz="4000" spc="-1" strike="noStrike" u="sng">
                <a:solidFill>
                  <a:srgbClr val="e17171"/>
                </a:solidFill>
                <a:uFillTx/>
                <a:latin typeface="Times New Roman"/>
              </a:rPr>
              <a:t>тел вращения – </a:t>
            </a:r>
            <a:br>
              <a:rPr sz="4000"/>
            </a:br>
            <a:r>
              <a:rPr b="0" i="1" lang="en-US" sz="4000" spc="-1" strike="noStrike" u="sng">
                <a:solidFill>
                  <a:srgbClr val="e17171"/>
                </a:solidFill>
                <a:uFillTx/>
                <a:latin typeface="Times New Roman"/>
              </a:rPr>
              <a:t>бесконечное числ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7840" y="4921200"/>
            <a:ext cx="36100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10-05-23T06:01:18Z</dcterms:modified>
  <cp:revision>2</cp:revision>
  <dc:subject/>
  <dc:title>PowerPoint Presentation</dc:title>
</cp:coreProperties>
</file>